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919F6-C952-4821-96B9-81AA61D21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857ED-561E-426A-A950-5CEF4E78B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D294D-B1A7-4DF4-BDF2-BD71E9F82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0590E-9750-45CD-AA3F-27A60ADEB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0A9B19-1EC7-4441-A8F0-CCEB4FCC10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92D94-A451-4719-92EA-A8D588D95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C2DE9-E801-4337-9E53-452DDB4B6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F4074-DA58-4EA0-9C8B-F75FA961C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09057-62A4-4605-92D5-0C72BF623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60602-F29C-43C6-8901-8B3EDD15F4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F91B4-2020-4491-A244-7DB2D2D21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590B6-738E-4412-906D-E096D9EA2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C52E0-7A4B-4CBF-9900-245B2759E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387EA-F838-45C5-97B6-71839A90B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9CBEC-06BD-4D9C-9503-1276066F0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EE246D-1EAB-49D5-98CC-F78A2AE048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3AF779-889D-4C36-BFCF-A4801814E2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7DB2F-1500-4DDE-9F3F-EC57CE05C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3030A-3906-4DB3-B944-C7AEF2AA1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A02A4-463C-496B-B000-BD4011E93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66676-D134-4FD7-98D4-C05D2BBC6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29A9B-E1E2-453A-BA90-FFD26D289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C0759-7B0A-4ECA-AA41-C281D08B9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EBB6F-5195-4A2B-8B26-9F26EF5E87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B814E-82DE-4525-9B72-E3040B6BA0F2}"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Arial"/>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E3400-E884-485F-96E8-E714F87AF550}"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4 ATB</a:t>
            </a:r>
            <a:endParaRPr b="0" lang="en-US" sz="4400" spc="-1" strike="noStrike">
              <a:solidFill>
                <a:srgbClr val="c4c3aa"/>
              </a:solidFill>
              <a:latin typeface="Arial"/>
            </a:endParaRPr>
          </a:p>
        </p:txBody>
      </p:sp>
      <p:sp>
        <p:nvSpPr>
          <p:cNvPr id="331" name="PlaceHolder 2"/>
          <p:cNvSpPr>
            <a:spLocks noGrp="1"/>
          </p:cNvSpPr>
          <p:nvPr>
            <p:ph/>
          </p:nvPr>
        </p:nvSpPr>
        <p:spPr>
          <a:xfrm>
            <a:off x="304920" y="13712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ame one environmental issue you’ve read / heard / know about.</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ok over your test</a:t>
            </a:r>
            <a:endParaRPr b="0" lang="en-US" sz="2800" spc="-1" strike="noStrike">
              <a:solidFill>
                <a:srgbClr val="ffffff"/>
              </a:solidFill>
              <a:latin typeface="Verdana"/>
            </a:endParaRPr>
          </a:p>
          <a:p>
            <a:pPr lvl="2" marL="1143000" indent="-228600">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3 = e</a:t>
            </a:r>
            <a:endParaRPr b="0" lang="en-US" sz="2400" spc="-1" strike="noStrike">
              <a:solidFill>
                <a:srgbClr val="ffffff"/>
              </a:solidFill>
              <a:latin typeface="Verdana"/>
            </a:endParaRPr>
          </a:p>
          <a:p>
            <a:pPr lvl="2" marL="1143000" indent="-228600">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5 = b</a:t>
            </a:r>
            <a:endParaRPr b="0" lang="en-US" sz="24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urn test back in</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cuss / start your PowerPoint research</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14 ATB period 1</a:t>
            </a:r>
            <a:endParaRPr b="0" lang="en-US" sz="4400" spc="-1" strike="noStrike">
              <a:solidFill>
                <a:srgbClr val="c4c3aa"/>
              </a:solidFill>
              <a:latin typeface="Arial"/>
            </a:endParaRPr>
          </a:p>
        </p:txBody>
      </p:sp>
      <p:sp>
        <p:nvSpPr>
          <p:cNvPr id="3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fertilizer management?</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r>
              <a:rPr b="0" lang="en-US" sz="3200" spc="-1" strike="noStrike">
                <a:solidFill>
                  <a:srgbClr val="ffffff"/>
                </a:solidFill>
                <a:latin typeface="Verdana"/>
              </a:rPr>
              <a:t>	</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with the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14 ATB period 3 and 8</a:t>
            </a:r>
            <a:endParaRPr b="0" lang="en-US" sz="4400" spc="-1" strike="noStrike">
              <a:solidFill>
                <a:srgbClr val="c4c3aa"/>
              </a:solidFill>
              <a:latin typeface="Arial"/>
            </a:endParaRPr>
          </a:p>
        </p:txBody>
      </p:sp>
      <p:sp>
        <p:nvSpPr>
          <p:cNvPr id="3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are some major causes of species endangerment?</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with the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15 ATB – period 1</a:t>
            </a:r>
            <a:endParaRPr b="0" lang="en-US" sz="4400" spc="-1" strike="noStrike">
              <a:solidFill>
                <a:srgbClr val="c4c3aa"/>
              </a:solidFill>
              <a:latin typeface="Arial"/>
            </a:endParaRPr>
          </a:p>
        </p:txBody>
      </p:sp>
      <p:sp>
        <p:nvSpPr>
          <p:cNvPr id="3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are the harp seals hunted?</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with the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15 ATB -- period 3</a:t>
            </a:r>
            <a:endParaRPr b="0" lang="en-US" sz="4400" spc="-1" strike="noStrike">
              <a:solidFill>
                <a:srgbClr val="c4c3aa"/>
              </a:solidFill>
              <a:latin typeface="Arial"/>
            </a:endParaRPr>
          </a:p>
        </p:txBody>
      </p:sp>
      <p:sp>
        <p:nvSpPr>
          <p:cNvPr id="3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the definition of overfishing?</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with the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15 ATB – period 8</a:t>
            </a:r>
            <a:endParaRPr b="0" lang="en-US" sz="4400" spc="-1" strike="noStrike">
              <a:solidFill>
                <a:srgbClr val="c4c3aa"/>
              </a:solidFill>
              <a:latin typeface="Arial"/>
            </a:endParaRPr>
          </a:p>
        </p:txBody>
      </p:sp>
      <p:sp>
        <p:nvSpPr>
          <p:cNvPr id="3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does Japan continue to whale (even though it’s banned)?</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with the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16 ATB – period 1 and 8</a:t>
            </a:r>
            <a:endParaRPr b="0" lang="en-US" sz="4400" spc="-1" strike="noStrike">
              <a:solidFill>
                <a:srgbClr val="c4c3aa"/>
              </a:solidFill>
              <a:latin typeface="Arial"/>
            </a:endParaRPr>
          </a:p>
        </p:txBody>
      </p:sp>
      <p:sp>
        <p:nvSpPr>
          <p:cNvPr id="3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albedo?</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with the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16 ATB – period 3</a:t>
            </a:r>
            <a:endParaRPr b="0" lang="en-US" sz="4400" spc="-1" strike="noStrike">
              <a:solidFill>
                <a:srgbClr val="c4c3aa"/>
              </a:solidFill>
              <a:latin typeface="Arial"/>
            </a:endParaRPr>
          </a:p>
        </p:txBody>
      </p:sp>
      <p:sp>
        <p:nvSpPr>
          <p:cNvPr id="3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desertification?  What are some cause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with the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17 ATB – period 1</a:t>
            </a:r>
            <a:endParaRPr b="0" lang="en-US" sz="4400" spc="-1" strike="noStrike">
              <a:solidFill>
                <a:srgbClr val="c4c3aa"/>
              </a:solidFill>
              <a:latin typeface="Arial"/>
            </a:endParaRPr>
          </a:p>
        </p:txBody>
      </p:sp>
      <p:sp>
        <p:nvSpPr>
          <p:cNvPr id="3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one excuse that Japan uses to legitimize it’s whaling?</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with the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17 ATB – period 3</a:t>
            </a:r>
            <a:endParaRPr b="0" lang="en-US" sz="4400" spc="-1" strike="noStrike">
              <a:solidFill>
                <a:srgbClr val="c4c3aa"/>
              </a:solidFill>
              <a:latin typeface="Arial"/>
            </a:endParaRPr>
          </a:p>
        </p:txBody>
      </p:sp>
      <p:sp>
        <p:nvSpPr>
          <p:cNvPr id="3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are two different causes of deforestation?</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with the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17 ATB – period 8</a:t>
            </a:r>
            <a:endParaRPr b="0" lang="en-US" sz="4400" spc="-1" strike="noStrike">
              <a:solidFill>
                <a:srgbClr val="c4c3aa"/>
              </a:solidFill>
              <a:latin typeface="Arial"/>
            </a:endParaRPr>
          </a:p>
        </p:txBody>
      </p:sp>
      <p:sp>
        <p:nvSpPr>
          <p:cNvPr id="3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do poor nations with a high birth rate NOT have high human population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with the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c4c3aa"/>
                </a:solidFill>
                <a:uFillTx/>
                <a:latin typeface="Arial"/>
              </a:rPr>
              <a:t>Field Biology – Environmental Health Article Presentation</a:t>
            </a:r>
            <a:r>
              <a:rPr b="0" lang="en-US" sz="4700" spc="-1" strike="noStrike">
                <a:solidFill>
                  <a:srgbClr val="c4c3aa"/>
                </a:solidFill>
                <a:latin typeface="Arial"/>
              </a:rPr>
              <a:t> </a:t>
            </a:r>
            <a:endParaRPr b="0" lang="en-US" sz="4700" spc="-1" strike="noStrike">
              <a:solidFill>
                <a:srgbClr val="c4c3aa"/>
              </a:solidFill>
              <a:latin typeface="Arial"/>
            </a:endParaRPr>
          </a:p>
        </p:txBody>
      </p:sp>
      <p:sp>
        <p:nvSpPr>
          <p:cNvPr id="33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22 ATB – period 1</a:t>
            </a:r>
            <a:endParaRPr b="0" lang="en-US" sz="4400" spc="-1" strike="noStrike">
              <a:solidFill>
                <a:srgbClr val="c4c3aa"/>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desertification?  What is one cause?  </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ish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st Thursda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22 ATB – period 3</a:t>
            </a:r>
            <a:endParaRPr b="0" lang="en-US" sz="4400" spc="-1" strike="noStrike">
              <a:solidFill>
                <a:srgbClr val="c4c3aa"/>
              </a:solidFill>
              <a:latin typeface="Arial"/>
            </a:endParaRPr>
          </a:p>
        </p:txBody>
      </p:sp>
      <p:sp>
        <p:nvSpPr>
          <p:cNvPr id="3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are two causes of deforestation?</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ish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st Thursday?</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22 ATB – period 9</a:t>
            </a:r>
            <a:endParaRPr b="0" lang="en-US" sz="4400" spc="-1" strike="noStrike">
              <a:solidFill>
                <a:srgbClr val="c4c3aa"/>
              </a:solidFill>
              <a:latin typeface="Arial"/>
            </a:endParaRPr>
          </a:p>
        </p:txBody>
      </p:sp>
      <p:sp>
        <p:nvSpPr>
          <p:cNvPr id="3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are some of the major concerns with the human population</a:t>
            </a:r>
            <a:endParaRPr b="0" lang="en-US" sz="2800" spc="-1" strike="noStrike">
              <a:solidFill>
                <a:srgbClr val="ffffff"/>
              </a:solidFill>
              <a:latin typeface="Verdana"/>
            </a:endParaRPr>
          </a:p>
          <a:p>
            <a:pPr lvl="2" marL="1143000" indent="-228600">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nish presentations?</a:t>
            </a:r>
            <a:endParaRPr b="0" lang="en-US" sz="2400" spc="-1" strike="noStrike">
              <a:solidFill>
                <a:srgbClr val="ffffff"/>
              </a:solidFill>
              <a:latin typeface="Verdana"/>
            </a:endParaRPr>
          </a:p>
          <a:p>
            <a:pPr lvl="2" marL="1143000" indent="-228600">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tinue to rate the presentations (it’s a grade)</a:t>
            </a:r>
            <a:endParaRPr b="0" lang="en-US" sz="2400" spc="-1" strike="noStrike">
              <a:solidFill>
                <a:srgbClr val="ffffff"/>
              </a:solidFill>
              <a:latin typeface="Verdana"/>
            </a:endParaRPr>
          </a:p>
          <a:p>
            <a:pPr lvl="2" marL="1143000" indent="-228600">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st Thursday?</a:t>
            </a:r>
            <a:endParaRPr b="0" lang="en-US" sz="24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23 ATB – period 1</a:t>
            </a:r>
            <a:endParaRPr b="0" lang="en-US" sz="4400" spc="-1" strike="noStrike">
              <a:solidFill>
                <a:srgbClr val="c4c3aa"/>
              </a:solidFill>
              <a:latin typeface="Arial"/>
            </a:endParaRPr>
          </a:p>
        </p:txBody>
      </p:sp>
      <p:sp>
        <p:nvSpPr>
          <p:cNvPr id="376" name="PlaceHolder 2"/>
          <p:cNvSpPr>
            <a:spLocks noGrp="1"/>
          </p:cNvSpPr>
          <p:nvPr>
            <p:ph/>
          </p:nvPr>
        </p:nvSpPr>
        <p:spPr>
          <a:xfrm>
            <a:off x="228600" y="121896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culling?  Why does it happen?</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sting your presntations and multiple choice questions to the wikispace</a:t>
            </a:r>
            <a:endParaRPr b="0" lang="en-US" sz="2800" spc="-1" strike="noStrike">
              <a:solidFill>
                <a:srgbClr val="ffffff"/>
              </a:solidFill>
              <a:latin typeface="Verdana"/>
            </a:endParaRPr>
          </a:p>
          <a:p>
            <a:pPr lvl="1" marL="743040" indent="-285840">
              <a:lnSpc>
                <a:spcPct val="90000"/>
              </a:lnSpc>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Verdana"/>
              </a:rPr>
              <a:t>Fieldbio.wikispaces.com</a:t>
            </a:r>
            <a:endParaRPr b="0" lang="en-US" sz="35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ish presentatio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23 ATB – period 3</a:t>
            </a:r>
            <a:endParaRPr b="0" lang="en-US" sz="4400" spc="-1" strike="noStrike">
              <a:solidFill>
                <a:srgbClr val="c4c3aa"/>
              </a:solidFill>
              <a:latin typeface="Arial"/>
            </a:endParaRPr>
          </a:p>
        </p:txBody>
      </p:sp>
      <p:sp>
        <p:nvSpPr>
          <p:cNvPr id="3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do the Canadians hunt the harp seal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sting your presntations and multiple choice questions to the wikispace</a:t>
            </a:r>
            <a:endParaRPr b="0" lang="en-US" sz="2800" spc="-1" strike="noStrike">
              <a:solidFill>
                <a:srgbClr val="ffffff"/>
              </a:solidFill>
              <a:latin typeface="Verdana"/>
            </a:endParaRPr>
          </a:p>
          <a:p>
            <a:pPr lvl="1" marL="743040" indent="-285840">
              <a:lnSpc>
                <a:spcPct val="90000"/>
              </a:lnSpc>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Verdana"/>
              </a:rPr>
              <a:t>Fieldbio.wikispaces.com</a:t>
            </a:r>
            <a:endParaRPr b="0" lang="en-US" sz="35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ish presentatio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23 ATB – period 8</a:t>
            </a:r>
            <a:endParaRPr b="0" lang="en-US" sz="4400" spc="-1" strike="noStrike">
              <a:solidFill>
                <a:srgbClr val="c4c3aa"/>
              </a:solidFill>
              <a:latin typeface="Arial"/>
            </a:endParaRPr>
          </a:p>
        </p:txBody>
      </p:sp>
      <p:sp>
        <p:nvSpPr>
          <p:cNvPr id="3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bycatch?  </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sting your presntations and multiple choice questions to the wikispace</a:t>
            </a:r>
            <a:endParaRPr b="0" lang="en-US" sz="2800" spc="-1" strike="noStrike">
              <a:solidFill>
                <a:srgbClr val="ffffff"/>
              </a:solidFill>
              <a:latin typeface="Verdana"/>
            </a:endParaRPr>
          </a:p>
          <a:p>
            <a:pPr lvl="1" marL="743040" indent="-285840">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Verdana"/>
              </a:rPr>
              <a:t>Fieldbio.wikispaces.com</a:t>
            </a:r>
            <a:endParaRPr b="0" lang="en-US" sz="35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ish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24 ATB – period 1</a:t>
            </a:r>
            <a:endParaRPr b="0" lang="en-US" sz="4400" spc="-1" strike="noStrike">
              <a:solidFill>
                <a:srgbClr val="c4c3aa"/>
              </a:solidFill>
              <a:latin typeface="Arial"/>
            </a:endParaRPr>
          </a:p>
        </p:txBody>
      </p:sp>
      <p:sp>
        <p:nvSpPr>
          <p:cNvPr id="3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are some of the concerns about overpopulation?</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ish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n’t forget </a:t>
            </a:r>
            <a:r>
              <a:rPr b="0" lang="en-US" sz="2800" spc="-1" strike="noStrike">
                <a:solidFill>
                  <a:srgbClr val="ffffff"/>
                </a:solidFill>
                <a:latin typeface="Wingdings"/>
                <a:ea typeface="Wingdings"/>
              </a:rPr>
              <a:t></a:t>
            </a:r>
            <a:r>
              <a:rPr b="0" lang="en-US" sz="2800" spc="-1" strike="noStrike">
                <a:solidFill>
                  <a:srgbClr val="ffffff"/>
                </a:solidFill>
                <a:latin typeface="Verdana"/>
              </a:rPr>
              <a:t> your presentations and multiple choice questions are to be posted by Frida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24 ATB – period 3</a:t>
            </a:r>
            <a:endParaRPr b="0" lang="en-US" sz="4400" spc="-1" strike="noStrike">
              <a:solidFill>
                <a:srgbClr val="c4c3aa"/>
              </a:solidFill>
              <a:latin typeface="Arial"/>
            </a:endParaRPr>
          </a:p>
        </p:txBody>
      </p:sp>
      <p:sp>
        <p:nvSpPr>
          <p:cNvPr id="3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are some of the concerns about overpopulation?</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ish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n’t forget </a:t>
            </a:r>
            <a:r>
              <a:rPr b="0" lang="en-US" sz="2800" spc="-1" strike="noStrike">
                <a:solidFill>
                  <a:srgbClr val="ffffff"/>
                </a:solidFill>
                <a:latin typeface="Wingdings"/>
                <a:ea typeface="Wingdings"/>
              </a:rPr>
              <a:t></a:t>
            </a:r>
            <a:r>
              <a:rPr b="0" lang="en-US" sz="2800" spc="-1" strike="noStrike">
                <a:solidFill>
                  <a:srgbClr val="ffffff"/>
                </a:solidFill>
                <a:latin typeface="Verdana"/>
              </a:rPr>
              <a:t> your presentations and multiple choice questions are to be posted by Friday!</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24 ATB – period 8</a:t>
            </a:r>
            <a:endParaRPr b="0" lang="en-US" sz="4400" spc="-1" strike="noStrike">
              <a:solidFill>
                <a:srgbClr val="c4c3aa"/>
              </a:solidFill>
              <a:latin typeface="Arial"/>
            </a:endParaRPr>
          </a:p>
        </p:txBody>
      </p:sp>
      <p:sp>
        <p:nvSpPr>
          <p:cNvPr id="3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does IPM stand for?  What is it’s premise?  </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ish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n’t forget </a:t>
            </a:r>
            <a:r>
              <a:rPr b="0" lang="en-US" sz="2800" spc="-1" strike="noStrike">
                <a:solidFill>
                  <a:srgbClr val="ffffff"/>
                </a:solidFill>
                <a:latin typeface="Wingdings"/>
                <a:ea typeface="Wingdings"/>
              </a:rPr>
              <a:t></a:t>
            </a:r>
            <a:r>
              <a:rPr b="0" lang="en-US" sz="2800" spc="-1" strike="noStrike">
                <a:solidFill>
                  <a:srgbClr val="ffffff"/>
                </a:solidFill>
                <a:latin typeface="Verdana"/>
              </a:rPr>
              <a:t> your presentations and multiple choice questions are to be posted by Friday!</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25 ATB – period 1</a:t>
            </a:r>
            <a:endParaRPr b="0" lang="en-US" sz="4400" spc="-1" strike="noStrike">
              <a:solidFill>
                <a:srgbClr val="c4c3aa"/>
              </a:solidFill>
              <a:latin typeface="Arial"/>
            </a:endParaRPr>
          </a:p>
        </p:txBody>
      </p:sp>
      <p:sp>
        <p:nvSpPr>
          <p:cNvPr id="3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would be some consequences of the hole in the ozone layer?</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ish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n’t forget </a:t>
            </a:r>
            <a:r>
              <a:rPr b="0" lang="en-US" sz="2800" spc="-1" strike="noStrike">
                <a:solidFill>
                  <a:srgbClr val="ffffff"/>
                </a:solidFill>
                <a:latin typeface="Wingdings"/>
                <a:ea typeface="Wingdings"/>
              </a:rPr>
              <a:t></a:t>
            </a:r>
            <a:r>
              <a:rPr b="0" lang="en-US" sz="2800" spc="-1" strike="noStrike">
                <a:solidFill>
                  <a:srgbClr val="ffffff"/>
                </a:solidFill>
                <a:latin typeface="Verdana"/>
              </a:rPr>
              <a:t> your presentations and multiple choice questions are to be posted by Friday!</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457200" y="304920"/>
            <a:ext cx="8229600" cy="6324480"/>
          </a:xfrm>
          <a:prstGeom prst="rect">
            <a:avLst/>
          </a:prstGeom>
          <a:noFill/>
          <a:ln w="0">
            <a:noFill/>
          </a:ln>
        </p:spPr>
        <p:txBody>
          <a:bodyPr lIns="90000" rIns="90000" tIns="46800" bIns="46800"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Verdana"/>
              </a:rPr>
              <a:t>Directions</a:t>
            </a:r>
            <a:r>
              <a:rPr b="0" lang="en-US" sz="2000" spc="-1" strike="noStrike">
                <a:solidFill>
                  <a:srgbClr val="ffffff"/>
                </a:solidFill>
                <a:latin typeface="Verdana"/>
              </a:rPr>
              <a:t>:  You will be researching your topic dealing with environmental health.  There are a variety of issues that threaten the balance of various ecosystems around the globe.  You job will be to become an expert on your particular topic and then convening that information to your classmates.  You will be responsible for creating a PowerPoint which will be used as the basis for the information you will be telling the class.</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will be taking notes on what your present, and you will create quiz questions from the topic, which your classmates will take.  Thus, it is very important that you become an “expert” at your topic and research it thoroughly, and you will be responsible for covering it in detail.  You should be able to answer questions and explain the answers.  </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 will be present to help guide the research and help decide how much depth you should go into.  It is better to go into to much detail, rather than too little, as your presentation and related information will be graded.  You must cite your resources and include them in your last PowerPoint slide.  Below are the guidelines for how you will be graded.  Be sure to read though to make sure you know what you are responsible for creating.</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25 ATB – period 3</a:t>
            </a:r>
            <a:endParaRPr b="0" lang="en-US" sz="4400" spc="-1" strike="noStrike">
              <a:solidFill>
                <a:srgbClr val="c4c3aa"/>
              </a:solidFill>
              <a:latin typeface="Arial"/>
            </a:endParaRPr>
          </a:p>
        </p:txBody>
      </p:sp>
      <p:sp>
        <p:nvSpPr>
          <p:cNvPr id="3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albedo?  </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ish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n’t forget </a:t>
            </a:r>
            <a:r>
              <a:rPr b="0" lang="en-US" sz="2800" spc="-1" strike="noStrike">
                <a:solidFill>
                  <a:srgbClr val="ffffff"/>
                </a:solidFill>
                <a:latin typeface="Wingdings"/>
                <a:ea typeface="Wingdings"/>
              </a:rPr>
              <a:t></a:t>
            </a:r>
            <a:r>
              <a:rPr b="0" lang="en-US" sz="2800" spc="-1" strike="noStrike">
                <a:solidFill>
                  <a:srgbClr val="ffffff"/>
                </a:solidFill>
                <a:latin typeface="Verdana"/>
              </a:rPr>
              <a:t> your presentations and multiple choice questions are to be posted by Friday!</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25 ATB – period 8</a:t>
            </a:r>
            <a:endParaRPr b="0" lang="en-US" sz="4400" spc="-1" strike="noStrike">
              <a:solidFill>
                <a:srgbClr val="c4c3aa"/>
              </a:solidFill>
              <a:latin typeface="Arial"/>
            </a:endParaRPr>
          </a:p>
        </p:txBody>
      </p:sp>
      <p:sp>
        <p:nvSpPr>
          <p:cNvPr id="3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acid mine drainage?  </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ish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to rate the presentations (it’s a grad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n’t forget </a:t>
            </a:r>
            <a:r>
              <a:rPr b="0" lang="en-US" sz="2800" spc="-1" strike="noStrike">
                <a:solidFill>
                  <a:srgbClr val="ffffff"/>
                </a:solidFill>
                <a:latin typeface="Wingdings"/>
                <a:ea typeface="Wingdings"/>
              </a:rPr>
              <a:t></a:t>
            </a:r>
            <a:r>
              <a:rPr b="0" lang="en-US" sz="2800" spc="-1" strike="noStrike">
                <a:solidFill>
                  <a:srgbClr val="ffffff"/>
                </a:solidFill>
                <a:latin typeface="Verdana"/>
              </a:rPr>
              <a:t> your presentations and multiple choice questions are to be posted by Friday!</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7 ATB</a:t>
            </a:r>
            <a:endParaRPr b="0" lang="en-US" sz="4400" spc="-1" strike="noStrike">
              <a:solidFill>
                <a:srgbClr val="c4c3aa"/>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plain what you know about global warming.</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your research dealing with your environmental health topic</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8 ATB</a:t>
            </a:r>
            <a:endParaRPr b="0" lang="en-US" sz="4400" spc="-1" strike="noStrike">
              <a:solidFill>
                <a:srgbClr val="c4c3aa"/>
              </a:solidFill>
              <a:latin typeface="Arial"/>
            </a:endParaRPr>
          </a:p>
        </p:txBody>
      </p:sp>
      <p:sp>
        <p:nvSpPr>
          <p:cNvPr id="3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does ozone help us? Ask the ozone group</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working on your project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 should have a substantial amount of work don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 should be looking at home for youtube videos that will help you presen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9 ATB</a:t>
            </a:r>
            <a:endParaRPr b="0" lang="en-US" sz="4400" spc="-1" strike="noStrike">
              <a:solidFill>
                <a:srgbClr val="c4c3aa"/>
              </a:solidFill>
              <a:latin typeface="Arial"/>
            </a:endParaRPr>
          </a:p>
        </p:txBody>
      </p:sp>
      <p:sp>
        <p:nvSpPr>
          <p:cNvPr id="3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are two countries that still hunt whale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ish your presentati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sk me to check your work</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n’t forget to find good video’s / pic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ke your writing concis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10 ATB</a:t>
            </a:r>
            <a:endParaRPr b="0" lang="en-US" sz="4400" spc="-1" strike="noStrike">
              <a:solidFill>
                <a:srgbClr val="c4c3aa"/>
              </a:solidFill>
              <a:latin typeface="Arial"/>
            </a:endParaRPr>
          </a:p>
        </p:txBody>
      </p:sp>
      <p:sp>
        <p:nvSpPr>
          <p:cNvPr id="342" name="PlaceHolder 2"/>
          <p:cNvSpPr>
            <a:spLocks noGrp="1"/>
          </p:cNvSpPr>
          <p:nvPr>
            <p:ph/>
          </p:nvPr>
        </p:nvSpPr>
        <p:spPr>
          <a:xfrm>
            <a:off x="151920" y="914400"/>
            <a:ext cx="8534520" cy="541008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one effect of human overpopulation.</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d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st day for day for research</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f you are not ready to present you will lose points (no excus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yone want to present firs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 may need to spend time working on the powerpoint outside of class (you need to save it as a .pp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Saving on the Macs…</a:t>
            </a:r>
            <a:endParaRPr b="0" lang="en-US" sz="4400" spc="-1" strike="noStrike">
              <a:solidFill>
                <a:srgbClr val="c4c3aa"/>
              </a:solidFill>
              <a:latin typeface="Arial"/>
            </a:endParaRPr>
          </a:p>
        </p:txBody>
      </p:sp>
      <p:sp>
        <p:nvSpPr>
          <p:cNvPr id="3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le – click “save a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the “save as” dialogue box change the name, then hit the down arrow</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 the left, click “dst”</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n click “stu_vol1” and keep clicking until you see your ID #</a:t>
            </a:r>
            <a:endParaRPr b="0" lang="en-US" sz="3200" spc="-1" strike="noStrike">
              <a:solidFill>
                <a:srgbClr val="ffffff"/>
              </a:solidFill>
              <a:latin typeface="Verdana"/>
            </a:endParaRPr>
          </a:p>
        </p:txBody>
      </p:sp>
      <p:sp>
        <p:nvSpPr>
          <p:cNvPr id="345" name=""/>
          <p:cNvSpPr/>
          <p:nvPr/>
        </p:nvSpPr>
        <p:spPr>
          <a:xfrm>
            <a:off x="8286840" y="2911320"/>
            <a:ext cx="393480" cy="303480"/>
          </a:xfrm>
          <a:custGeom>
            <a:avLst/>
            <a:gdLst/>
            <a:ahLst/>
            <a:rect l="l" t="t" r="r" b="b"/>
            <a:pathLst>
              <a:path w="1092" h="845">
                <a:moveTo>
                  <a:pt x="23019" y="8136"/>
                </a:moveTo>
                <a:cubicBezTo>
                  <a:pt x="23019" y="8401"/>
                  <a:pt x="23019" y="8665"/>
                  <a:pt x="23019" y="8930"/>
                </a:cubicBezTo>
                <a:cubicBezTo>
                  <a:pt x="23383" y="8930"/>
                  <a:pt x="23746" y="8930"/>
                  <a:pt x="24110" y="8930"/>
                </a:cubicBezTo>
                <a:cubicBezTo>
                  <a:pt x="24110" y="8872"/>
                  <a:pt x="24120" y="8826"/>
                  <a:pt x="24085" y="8781"/>
                </a:cubicBezTo>
                <a:cubicBezTo>
                  <a:pt x="24064" y="8754"/>
                  <a:pt x="24079" y="8742"/>
                  <a:pt x="24061" y="8706"/>
                </a:cubicBezTo>
                <a:cubicBezTo>
                  <a:pt x="24051" y="8686"/>
                  <a:pt x="24017" y="8663"/>
                  <a:pt x="24011" y="8632"/>
                </a:cubicBezTo>
                <a:cubicBezTo>
                  <a:pt x="23978" y="8465"/>
                  <a:pt x="24011" y="8257"/>
                  <a:pt x="24011" y="8086"/>
                </a:cubicBezTo>
                <a:cubicBezTo>
                  <a:pt x="23689" y="8086"/>
                  <a:pt x="23366" y="8086"/>
                  <a:pt x="23044" y="8086"/>
                </a:cubicBezTo>
              </a:path>
              <a:path w="1092" h="845">
                <a:moveTo>
                  <a:pt x="23664" y="8384"/>
                </a:moveTo>
                <a:cubicBezTo>
                  <a:pt x="23548" y="8384"/>
                  <a:pt x="23432" y="8384"/>
                  <a:pt x="23316" y="8384"/>
                </a:cubicBezTo>
                <a:cubicBezTo>
                  <a:pt x="23316" y="8410"/>
                  <a:pt x="23323" y="8471"/>
                  <a:pt x="23341" y="8483"/>
                </a:cubicBezTo>
                <a:cubicBezTo>
                  <a:pt x="23376" y="8506"/>
                  <a:pt x="23368" y="8514"/>
                  <a:pt x="23391" y="8533"/>
                </a:cubicBezTo>
                <a:cubicBezTo>
                  <a:pt x="23420" y="8556"/>
                  <a:pt x="23416" y="8554"/>
                  <a:pt x="23416" y="8607"/>
                </a:cubicBezTo>
                <a:cubicBezTo>
                  <a:pt x="23457" y="8607"/>
                  <a:pt x="23510" y="8590"/>
                  <a:pt x="23515" y="8632"/>
                </a:cubicBezTo>
                <a:cubicBezTo>
                  <a:pt x="23519" y="8664"/>
                  <a:pt x="23520" y="8696"/>
                  <a:pt x="23540" y="8706"/>
                </a:cubicBezTo>
                <a:cubicBezTo>
                  <a:pt x="23548" y="8706"/>
                  <a:pt x="23556" y="8706"/>
                  <a:pt x="23564" y="8706"/>
                </a:cubicBezTo>
                <a:cubicBezTo>
                  <a:pt x="23564" y="8640"/>
                  <a:pt x="23564" y="8574"/>
                  <a:pt x="23564" y="8508"/>
                </a:cubicBezTo>
              </a:path>
              <a:path w="1092" h="845">
                <a:moveTo>
                  <a:pt x="23490" y="8483"/>
                </a:moveTo>
                <a:lnTo>
                  <a:pt x="23490" y="8483"/>
                </a:lnTo>
              </a:path>
              <a:path w="1092" h="845">
                <a:moveTo>
                  <a:pt x="23490" y="8582"/>
                </a:moveTo>
                <a:cubicBezTo>
                  <a:pt x="23490" y="8590"/>
                  <a:pt x="23490" y="8599"/>
                  <a:pt x="23490" y="8607"/>
                </a:cubicBezTo>
              </a:path>
              <a:path w="1092" h="845">
                <a:moveTo>
                  <a:pt x="23515" y="8657"/>
                </a:moveTo>
                <a:lnTo>
                  <a:pt x="23515" y="8657"/>
                </a:lnTo>
              </a:path>
              <a:path w="1092" h="845">
                <a:moveTo>
                  <a:pt x="23564" y="8483"/>
                </a:moveTo>
                <a:lnTo>
                  <a:pt x="23564" y="8483"/>
                </a:lnTo>
              </a:path>
              <a:path w="1092" h="845">
                <a:moveTo>
                  <a:pt x="23490" y="8483"/>
                </a:moveTo>
                <a:lnTo>
                  <a:pt x="23490" y="8483"/>
                </a:lnTo>
              </a:path>
              <a:path w="1092" h="845">
                <a:moveTo>
                  <a:pt x="23589" y="8483"/>
                </a:moveTo>
                <a:cubicBezTo>
                  <a:pt x="23597" y="8483"/>
                  <a:pt x="23606" y="8483"/>
                  <a:pt x="23614" y="8483"/>
                </a:cubicBezTo>
              </a:path>
              <a:path w="1092" h="845">
                <a:moveTo>
                  <a:pt x="23664" y="8483"/>
                </a:moveTo>
                <a:lnTo>
                  <a:pt x="23664" y="8483"/>
                </a:lnTo>
              </a:path>
              <a:path w="1092" h="845">
                <a:moveTo>
                  <a:pt x="23763" y="8458"/>
                </a:moveTo>
                <a:cubicBezTo>
                  <a:pt x="23771" y="8458"/>
                  <a:pt x="23780" y="8458"/>
                  <a:pt x="23788" y="8458"/>
                </a:cubicBezTo>
              </a:path>
              <a:path w="1092" h="845">
                <a:moveTo>
                  <a:pt x="23688" y="8508"/>
                </a:moveTo>
                <a:cubicBezTo>
                  <a:pt x="23688" y="8549"/>
                  <a:pt x="23676" y="8520"/>
                  <a:pt x="23664" y="8558"/>
                </a:cubicBezTo>
              </a:path>
              <a:path w="1092" h="845">
                <a:moveTo>
                  <a:pt x="23639" y="8582"/>
                </a:moveTo>
                <a:cubicBezTo>
                  <a:pt x="23639" y="8590"/>
                  <a:pt x="23639" y="8599"/>
                  <a:pt x="23639" y="8607"/>
                </a:cubicBezTo>
              </a:path>
              <a:path w="1092" h="845">
                <a:moveTo>
                  <a:pt x="23639" y="8607"/>
                </a:moveTo>
                <a:cubicBezTo>
                  <a:pt x="23639" y="8582"/>
                  <a:pt x="23639" y="8574"/>
                  <a:pt x="23639" y="8558"/>
                </a:cubicBezTo>
              </a:path>
              <a:path w="1092" h="845">
                <a:moveTo>
                  <a:pt x="23664" y="8409"/>
                </a:moveTo>
                <a:lnTo>
                  <a:pt x="23664" y="8409"/>
                </a:lnTo>
              </a:path>
              <a:path w="1092" h="845">
                <a:moveTo>
                  <a:pt x="23763" y="8409"/>
                </a:moveTo>
                <a:lnTo>
                  <a:pt x="23763" y="8409"/>
                </a:lnTo>
              </a:path>
              <a:path w="1092" h="845">
                <a:moveTo>
                  <a:pt x="23763" y="8458"/>
                </a:moveTo>
                <a:lnTo>
                  <a:pt x="23763" y="8458"/>
                </a:lnTo>
              </a:path>
              <a:path w="1092" h="845">
                <a:moveTo>
                  <a:pt x="23763" y="8458"/>
                </a:moveTo>
                <a:lnTo>
                  <a:pt x="23763" y="8458"/>
                </a:lnTo>
              </a:path>
              <a:path w="1092" h="845">
                <a:moveTo>
                  <a:pt x="23812" y="8458"/>
                </a:moveTo>
                <a:lnTo>
                  <a:pt x="23812" y="8458"/>
                </a:lnTo>
              </a:path>
              <a:path w="1092" h="845">
                <a:moveTo>
                  <a:pt x="23688" y="8409"/>
                </a:moveTo>
                <a:lnTo>
                  <a:pt x="23688" y="8409"/>
                </a:lnTo>
              </a:path>
              <a:path w="1092" h="845">
                <a:moveTo>
                  <a:pt x="23763" y="8434"/>
                </a:moveTo>
                <a:cubicBezTo>
                  <a:pt x="23771" y="8434"/>
                  <a:pt x="23780" y="8434"/>
                  <a:pt x="23788" y="8434"/>
                </a:cubicBezTo>
              </a:path>
              <a:path w="1092" h="845">
                <a:moveTo>
                  <a:pt x="23837" y="8434"/>
                </a:moveTo>
                <a:lnTo>
                  <a:pt x="23837" y="8434"/>
                </a:lnTo>
              </a:path>
              <a:path w="1092" h="845">
                <a:moveTo>
                  <a:pt x="23713" y="8533"/>
                </a:moveTo>
                <a:lnTo>
                  <a:pt x="23713" y="8533"/>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8232840" y="2911320"/>
            <a:ext cx="474480" cy="366840"/>
          </a:xfrm>
          <a:custGeom>
            <a:avLst/>
            <a:gdLst/>
            <a:ahLst/>
            <a:rect l="l" t="t" r="r" b="b"/>
            <a:pathLst>
              <a:path w="1316" h="1018">
                <a:moveTo>
                  <a:pt x="23019" y="8136"/>
                </a:moveTo>
                <a:cubicBezTo>
                  <a:pt x="23014" y="8175"/>
                  <a:pt x="23000" y="8204"/>
                  <a:pt x="22994" y="8235"/>
                </a:cubicBezTo>
                <a:cubicBezTo>
                  <a:pt x="22986" y="8276"/>
                  <a:pt x="22976" y="8326"/>
                  <a:pt x="22969" y="8359"/>
                </a:cubicBezTo>
                <a:cubicBezTo>
                  <a:pt x="22963" y="8390"/>
                  <a:pt x="22948" y="8436"/>
                  <a:pt x="22944" y="8458"/>
                </a:cubicBezTo>
                <a:cubicBezTo>
                  <a:pt x="22917" y="8621"/>
                  <a:pt x="22944" y="8813"/>
                  <a:pt x="22944" y="8979"/>
                </a:cubicBezTo>
                <a:cubicBezTo>
                  <a:pt x="22986" y="8985"/>
                  <a:pt x="23006" y="8998"/>
                  <a:pt x="23044" y="9004"/>
                </a:cubicBezTo>
                <a:cubicBezTo>
                  <a:pt x="23158" y="9023"/>
                  <a:pt x="23286" y="9008"/>
                  <a:pt x="23391" y="9029"/>
                </a:cubicBezTo>
                <a:cubicBezTo>
                  <a:pt x="23528" y="9057"/>
                  <a:pt x="23716" y="9028"/>
                  <a:pt x="23837" y="9004"/>
                </a:cubicBezTo>
                <a:cubicBezTo>
                  <a:pt x="23905" y="8990"/>
                  <a:pt x="23991" y="9004"/>
                  <a:pt x="24061" y="9004"/>
                </a:cubicBezTo>
                <a:cubicBezTo>
                  <a:pt x="24074" y="8968"/>
                  <a:pt x="24083" y="8947"/>
                  <a:pt x="24085" y="8905"/>
                </a:cubicBezTo>
                <a:cubicBezTo>
                  <a:pt x="24096" y="8704"/>
                  <a:pt x="24078" y="8503"/>
                  <a:pt x="24110" y="8310"/>
                </a:cubicBezTo>
                <a:cubicBezTo>
                  <a:pt x="24117" y="8269"/>
                  <a:pt x="24110" y="8096"/>
                  <a:pt x="24110" y="8136"/>
                </a:cubicBezTo>
                <a:cubicBezTo>
                  <a:pt x="24110" y="8161"/>
                  <a:pt x="24110" y="8169"/>
                  <a:pt x="24110" y="8186"/>
                </a:cubicBezTo>
                <a:cubicBezTo>
                  <a:pt x="24110" y="8434"/>
                  <a:pt x="24110" y="9128"/>
                  <a:pt x="24110" y="8880"/>
                </a:cubicBezTo>
                <a:cubicBezTo>
                  <a:pt x="24110" y="8872"/>
                  <a:pt x="24110" y="8863"/>
                  <a:pt x="24110" y="8855"/>
                </a:cubicBezTo>
                <a:cubicBezTo>
                  <a:pt x="24110" y="8807"/>
                  <a:pt x="24130" y="8766"/>
                  <a:pt x="24135" y="8731"/>
                </a:cubicBezTo>
                <a:cubicBezTo>
                  <a:pt x="24145" y="8663"/>
                  <a:pt x="24148" y="8592"/>
                  <a:pt x="24160" y="8533"/>
                </a:cubicBezTo>
                <a:cubicBezTo>
                  <a:pt x="24169" y="8490"/>
                  <a:pt x="24180" y="8418"/>
                  <a:pt x="24185" y="8384"/>
                </a:cubicBezTo>
                <a:cubicBezTo>
                  <a:pt x="24197" y="8306"/>
                  <a:pt x="24185" y="8215"/>
                  <a:pt x="24185" y="8136"/>
                </a:cubicBezTo>
                <a:cubicBezTo>
                  <a:pt x="24145" y="8141"/>
                  <a:pt x="24116" y="8155"/>
                  <a:pt x="24085" y="8161"/>
                </a:cubicBezTo>
                <a:cubicBezTo>
                  <a:pt x="23999" y="8178"/>
                  <a:pt x="23915" y="8149"/>
                  <a:pt x="23837" y="8136"/>
                </a:cubicBezTo>
                <a:cubicBezTo>
                  <a:pt x="23766" y="8124"/>
                  <a:pt x="23682" y="8120"/>
                  <a:pt x="23614" y="8111"/>
                </a:cubicBezTo>
                <a:cubicBezTo>
                  <a:pt x="23487" y="8094"/>
                  <a:pt x="23200" y="8072"/>
                  <a:pt x="23093" y="8136"/>
                </a:cubicBezTo>
                <a:cubicBezTo>
                  <a:pt x="23126" y="8136"/>
                  <a:pt x="23110" y="8136"/>
                  <a:pt x="23143" y="8136"/>
                </a:cubicBezTo>
                <a:cubicBezTo>
                  <a:pt x="23240" y="8136"/>
                  <a:pt x="23326" y="8149"/>
                  <a:pt x="23416" y="8161"/>
                </a:cubicBezTo>
                <a:cubicBezTo>
                  <a:pt x="23556" y="8179"/>
                  <a:pt x="23701" y="8163"/>
                  <a:pt x="23837" y="8186"/>
                </a:cubicBezTo>
                <a:cubicBezTo>
                  <a:pt x="23901" y="8197"/>
                  <a:pt x="23958" y="8178"/>
                  <a:pt x="23986" y="8161"/>
                </a:cubicBezTo>
                <a:cubicBezTo>
                  <a:pt x="23927" y="8155"/>
                  <a:pt x="23893" y="8139"/>
                  <a:pt x="23837" y="8136"/>
                </a:cubicBezTo>
                <a:cubicBezTo>
                  <a:pt x="23764" y="8132"/>
                  <a:pt x="23706" y="8122"/>
                  <a:pt x="23639" y="8111"/>
                </a:cubicBezTo>
                <a:cubicBezTo>
                  <a:pt x="23429" y="8076"/>
                  <a:pt x="23143" y="8121"/>
                  <a:pt x="22969" y="8086"/>
                </a:cubicBezTo>
                <a:cubicBezTo>
                  <a:pt x="22944" y="8086"/>
                  <a:pt x="22936" y="8086"/>
                  <a:pt x="22920" y="8086"/>
                </a:cubicBezTo>
                <a:cubicBezTo>
                  <a:pt x="22920" y="8375"/>
                  <a:pt x="22920" y="8665"/>
                  <a:pt x="22920" y="8954"/>
                </a:cubicBezTo>
                <a:cubicBezTo>
                  <a:pt x="22920" y="8965"/>
                  <a:pt x="22920" y="9071"/>
                  <a:pt x="22920" y="9004"/>
                </a:cubicBezTo>
                <a:cubicBezTo>
                  <a:pt x="22920" y="8891"/>
                  <a:pt x="22922" y="8781"/>
                  <a:pt x="22944" y="8682"/>
                </a:cubicBezTo>
                <a:cubicBezTo>
                  <a:pt x="22944" y="8674"/>
                  <a:pt x="22944" y="8665"/>
                  <a:pt x="22944" y="8657"/>
                </a:cubicBezTo>
                <a:cubicBezTo>
                  <a:pt x="22944" y="8715"/>
                  <a:pt x="22965" y="8785"/>
                  <a:pt x="22969" y="8806"/>
                </a:cubicBezTo>
                <a:cubicBezTo>
                  <a:pt x="22977" y="8843"/>
                  <a:pt x="22993" y="8924"/>
                  <a:pt x="22994" y="8930"/>
                </a:cubicBezTo>
                <a:cubicBezTo>
                  <a:pt x="23004" y="8977"/>
                  <a:pt x="22976" y="8987"/>
                  <a:pt x="23019" y="9004"/>
                </a:cubicBezTo>
                <a:cubicBezTo>
                  <a:pt x="23144" y="9052"/>
                  <a:pt x="23366" y="9006"/>
                  <a:pt x="23490" y="9029"/>
                </a:cubicBezTo>
                <a:cubicBezTo>
                  <a:pt x="23599" y="9049"/>
                  <a:pt x="23731" y="9040"/>
                  <a:pt x="23837" y="9054"/>
                </a:cubicBezTo>
                <a:cubicBezTo>
                  <a:pt x="23857" y="9057"/>
                  <a:pt x="23994" y="9054"/>
                  <a:pt x="23937" y="9054"/>
                </a:cubicBezTo>
                <a:cubicBezTo>
                  <a:pt x="23929" y="9054"/>
                  <a:pt x="23920" y="9054"/>
                  <a:pt x="23912" y="9054"/>
                </a:cubicBezTo>
                <a:cubicBezTo>
                  <a:pt x="23859" y="9022"/>
                  <a:pt x="23823" y="9043"/>
                  <a:pt x="23763" y="9029"/>
                </a:cubicBezTo>
                <a:cubicBezTo>
                  <a:pt x="23693" y="9012"/>
                  <a:pt x="23609" y="9023"/>
                  <a:pt x="23540" y="9004"/>
                </a:cubicBezTo>
                <a:cubicBezTo>
                  <a:pt x="23470" y="8984"/>
                  <a:pt x="23415" y="8979"/>
                  <a:pt x="23341" y="8979"/>
                </a:cubicBezTo>
                <a:cubicBezTo>
                  <a:pt x="23330" y="8979"/>
                  <a:pt x="23225" y="8979"/>
                  <a:pt x="23292" y="8979"/>
                </a:cubicBezTo>
                <a:cubicBezTo>
                  <a:pt x="23421" y="8979"/>
                  <a:pt x="23542" y="8984"/>
                  <a:pt x="23664" y="9004"/>
                </a:cubicBezTo>
                <a:cubicBezTo>
                  <a:pt x="23734" y="9015"/>
                  <a:pt x="24114" y="9034"/>
                  <a:pt x="24135" y="8979"/>
                </a:cubicBezTo>
                <a:cubicBezTo>
                  <a:pt x="24148" y="8946"/>
                  <a:pt x="24154" y="8859"/>
                  <a:pt x="24160" y="8830"/>
                </a:cubicBezTo>
                <a:cubicBezTo>
                  <a:pt x="24172" y="8770"/>
                  <a:pt x="24143" y="8755"/>
                  <a:pt x="24135" y="8706"/>
                </a:cubicBezTo>
                <a:cubicBezTo>
                  <a:pt x="24128" y="8659"/>
                  <a:pt x="24135" y="8605"/>
                  <a:pt x="24135" y="8558"/>
                </a:cubicBezTo>
                <a:cubicBezTo>
                  <a:pt x="24149" y="8594"/>
                  <a:pt x="24157" y="8615"/>
                  <a:pt x="24160" y="8657"/>
                </a:cubicBezTo>
                <a:cubicBezTo>
                  <a:pt x="24165" y="8749"/>
                  <a:pt x="24168" y="8876"/>
                  <a:pt x="24135" y="8930"/>
                </a:cubicBezTo>
                <a:cubicBezTo>
                  <a:pt x="24127" y="8943"/>
                  <a:pt x="24119" y="8926"/>
                  <a:pt x="24110" y="8880"/>
                </a:cubicBezTo>
                <a:cubicBezTo>
                  <a:pt x="24103" y="8846"/>
                  <a:pt x="24090" y="8807"/>
                  <a:pt x="24085" y="8781"/>
                </a:cubicBezTo>
                <a:cubicBezTo>
                  <a:pt x="24077" y="8743"/>
                  <a:pt x="24067" y="8717"/>
                  <a:pt x="24061" y="8682"/>
                </a:cubicBezTo>
                <a:cubicBezTo>
                  <a:pt x="24061" y="8657"/>
                  <a:pt x="24061" y="8649"/>
                  <a:pt x="24061" y="8632"/>
                </a:cubicBezTo>
                <a:cubicBezTo>
                  <a:pt x="24061" y="8747"/>
                  <a:pt x="24061" y="9045"/>
                  <a:pt x="24061" y="8930"/>
                </a:cubicBezTo>
                <a:cubicBezTo>
                  <a:pt x="24061" y="8922"/>
                  <a:pt x="24061" y="8913"/>
                  <a:pt x="24061" y="8905"/>
                </a:cubicBezTo>
                <a:cubicBezTo>
                  <a:pt x="24056" y="8868"/>
                  <a:pt x="24041" y="8833"/>
                  <a:pt x="24036" y="8806"/>
                </a:cubicBezTo>
                <a:cubicBezTo>
                  <a:pt x="24030" y="8772"/>
                  <a:pt x="24036" y="8610"/>
                  <a:pt x="24036" y="8657"/>
                </a:cubicBezTo>
                <a:cubicBezTo>
                  <a:pt x="24036" y="8715"/>
                  <a:pt x="24018" y="8761"/>
                  <a:pt x="24011" y="8806"/>
                </a:cubicBezTo>
                <a:cubicBezTo>
                  <a:pt x="24001" y="8871"/>
                  <a:pt x="23973" y="8914"/>
                  <a:pt x="23986" y="8979"/>
                </a:cubicBezTo>
                <a:cubicBezTo>
                  <a:pt x="23997" y="9034"/>
                  <a:pt x="24004" y="8984"/>
                  <a:pt x="24036" y="8979"/>
                </a:cubicBezTo>
                <a:cubicBezTo>
                  <a:pt x="24054" y="8976"/>
                  <a:pt x="24188" y="8982"/>
                  <a:pt x="24110" y="9004"/>
                </a:cubicBezTo>
                <a:cubicBezTo>
                  <a:pt x="24054" y="9020"/>
                  <a:pt x="24044" y="9004"/>
                  <a:pt x="23986" y="9004"/>
                </a:cubicBezTo>
                <a:cubicBezTo>
                  <a:pt x="24044" y="9004"/>
                  <a:pt x="24102" y="9004"/>
                  <a:pt x="24160" y="9004"/>
                </a:cubicBezTo>
                <a:cubicBezTo>
                  <a:pt x="24183" y="8947"/>
                  <a:pt x="24168" y="8993"/>
                  <a:pt x="24160" y="8930"/>
                </a:cubicBezTo>
                <a:cubicBezTo>
                  <a:pt x="24140" y="8763"/>
                  <a:pt x="24155" y="8559"/>
                  <a:pt x="24185" y="8409"/>
                </a:cubicBezTo>
                <a:cubicBezTo>
                  <a:pt x="24195" y="8361"/>
                  <a:pt x="24166" y="8344"/>
                  <a:pt x="24160" y="8310"/>
                </a:cubicBezTo>
                <a:cubicBezTo>
                  <a:pt x="24150" y="8248"/>
                  <a:pt x="24160" y="8174"/>
                  <a:pt x="24160" y="8111"/>
                </a:cubicBezTo>
                <a:cubicBezTo>
                  <a:pt x="24160" y="8144"/>
                  <a:pt x="24160" y="8128"/>
                  <a:pt x="24160" y="8161"/>
                </a:cubicBezTo>
                <a:cubicBezTo>
                  <a:pt x="24160" y="8217"/>
                  <a:pt x="24143" y="8194"/>
                  <a:pt x="24135" y="8235"/>
                </a:cubicBezTo>
                <a:cubicBezTo>
                  <a:pt x="24135" y="8260"/>
                  <a:pt x="24135" y="8268"/>
                  <a:pt x="24135" y="8285"/>
                </a:cubicBezTo>
                <a:cubicBezTo>
                  <a:pt x="24135" y="8252"/>
                  <a:pt x="24149" y="8265"/>
                  <a:pt x="24135" y="8235"/>
                </a:cubicBezTo>
                <a:cubicBezTo>
                  <a:pt x="24119" y="8200"/>
                  <a:pt x="24113" y="8212"/>
                  <a:pt x="24110" y="8161"/>
                </a:cubicBezTo>
                <a:cubicBezTo>
                  <a:pt x="24108" y="8126"/>
                  <a:pt x="24128" y="8086"/>
                  <a:pt x="24085" y="8086"/>
                </a:cubicBezTo>
                <a:cubicBezTo>
                  <a:pt x="24071" y="8086"/>
                  <a:pt x="24015" y="8109"/>
                  <a:pt x="23986" y="8111"/>
                </a:cubicBezTo>
                <a:cubicBezTo>
                  <a:pt x="23633" y="8131"/>
                  <a:pt x="23274" y="8111"/>
                  <a:pt x="22920" y="8111"/>
                </a:cubicBezTo>
                <a:cubicBezTo>
                  <a:pt x="22843" y="8111"/>
                  <a:pt x="22886" y="8107"/>
                  <a:pt x="22895" y="8111"/>
                </a:cubicBezTo>
                <a:cubicBezTo>
                  <a:pt x="22913" y="8119"/>
                  <a:pt x="22922" y="8133"/>
                  <a:pt x="22969" y="8136"/>
                </a:cubicBezTo>
                <a:cubicBezTo>
                  <a:pt x="23011" y="8138"/>
                  <a:pt x="23038" y="8156"/>
                  <a:pt x="23068" y="8161"/>
                </a:cubicBezTo>
                <a:cubicBezTo>
                  <a:pt x="23133" y="8172"/>
                  <a:pt x="23204" y="8176"/>
                  <a:pt x="23267" y="8186"/>
                </a:cubicBezTo>
                <a:cubicBezTo>
                  <a:pt x="23376" y="8203"/>
                  <a:pt x="23503" y="8186"/>
                  <a:pt x="23614" y="8186"/>
                </a:cubicBezTo>
                <a:cubicBezTo>
                  <a:pt x="23636" y="8186"/>
                  <a:pt x="23772" y="8186"/>
                  <a:pt x="23713" y="8186"/>
                </a:cubicBezTo>
                <a:cubicBezTo>
                  <a:pt x="23616" y="8186"/>
                  <a:pt x="23531" y="8196"/>
                  <a:pt x="23440" y="8210"/>
                </a:cubicBezTo>
                <a:cubicBezTo>
                  <a:pt x="23341" y="8225"/>
                  <a:pt x="23089" y="8210"/>
                  <a:pt x="23068" y="8210"/>
                </a:cubicBezTo>
                <a:cubicBezTo>
                  <a:pt x="23316" y="8210"/>
                  <a:pt x="23581" y="8202"/>
                  <a:pt x="23812" y="8235"/>
                </a:cubicBezTo>
                <a:cubicBezTo>
                  <a:pt x="23883" y="8245"/>
                  <a:pt x="23964" y="8235"/>
                  <a:pt x="24036" y="8235"/>
                </a:cubicBezTo>
                <a:cubicBezTo>
                  <a:pt x="23999" y="8230"/>
                  <a:pt x="23964" y="8215"/>
                  <a:pt x="23937" y="8210"/>
                </a:cubicBezTo>
                <a:cubicBezTo>
                  <a:pt x="23815" y="8190"/>
                  <a:pt x="23683" y="8205"/>
                  <a:pt x="23564" y="8186"/>
                </a:cubicBezTo>
                <a:cubicBezTo>
                  <a:pt x="23368" y="8154"/>
                  <a:pt x="23144" y="8186"/>
                  <a:pt x="22944" y="8186"/>
                </a:cubicBezTo>
                <a:cubicBezTo>
                  <a:pt x="22949" y="8225"/>
                  <a:pt x="22963" y="8255"/>
                  <a:pt x="22969" y="8285"/>
                </a:cubicBezTo>
                <a:cubicBezTo>
                  <a:pt x="22999" y="8435"/>
                  <a:pt x="22969" y="8760"/>
                  <a:pt x="22969" y="8830"/>
                </a:cubicBezTo>
                <a:cubicBezTo>
                  <a:pt x="22963" y="8789"/>
                  <a:pt x="22950" y="8769"/>
                  <a:pt x="22944" y="8731"/>
                </a:cubicBezTo>
                <a:cubicBezTo>
                  <a:pt x="22933" y="8667"/>
                  <a:pt x="22951" y="8611"/>
                  <a:pt x="22969" y="8582"/>
                </a:cubicBezTo>
                <a:cubicBezTo>
                  <a:pt x="22969" y="8528"/>
                  <a:pt x="22969" y="8528"/>
                  <a:pt x="22969" y="8582"/>
                </a:cubicBezTo>
                <a:cubicBezTo>
                  <a:pt x="22969" y="8718"/>
                  <a:pt x="22968" y="8858"/>
                  <a:pt x="22944" y="8979"/>
                </a:cubicBezTo>
                <a:cubicBezTo>
                  <a:pt x="22934" y="9030"/>
                  <a:pt x="22953" y="9041"/>
                  <a:pt x="22994" y="9054"/>
                </a:cubicBezTo>
                <a:cubicBezTo>
                  <a:pt x="23045" y="9070"/>
                  <a:pt x="23147" y="9071"/>
                  <a:pt x="23192" y="9079"/>
                </a:cubicBezTo>
                <a:cubicBezTo>
                  <a:pt x="23399" y="9114"/>
                  <a:pt x="23639" y="9076"/>
                  <a:pt x="23837" y="9103"/>
                </a:cubicBezTo>
                <a:cubicBezTo>
                  <a:pt x="23889" y="9110"/>
                  <a:pt x="23930" y="9081"/>
                  <a:pt x="23986" y="9079"/>
                </a:cubicBezTo>
                <a:cubicBezTo>
                  <a:pt x="24023" y="9077"/>
                  <a:pt x="24180" y="9079"/>
                  <a:pt x="24135" y="9079"/>
                </a:cubicBezTo>
                <a:cubicBezTo>
                  <a:pt x="24110" y="9079"/>
                  <a:pt x="24102" y="9079"/>
                  <a:pt x="24085" y="9079"/>
                </a:cubicBezTo>
                <a:cubicBezTo>
                  <a:pt x="23885" y="9079"/>
                  <a:pt x="23682" y="9086"/>
                  <a:pt x="23490" y="9054"/>
                </a:cubicBezTo>
                <a:cubicBezTo>
                  <a:pt x="23418" y="9042"/>
                  <a:pt x="23380" y="9075"/>
                  <a:pt x="23316" y="9079"/>
                </a:cubicBezTo>
                <a:cubicBezTo>
                  <a:pt x="23251" y="9083"/>
                  <a:pt x="23236" y="9072"/>
                  <a:pt x="23168" y="9079"/>
                </a:cubicBezTo>
                <a:cubicBezTo>
                  <a:pt x="23106" y="9085"/>
                  <a:pt x="23089" y="9061"/>
                  <a:pt x="23044" y="9054"/>
                </a:cubicBezTo>
                <a:cubicBezTo>
                  <a:pt x="22981" y="9044"/>
                  <a:pt x="22955" y="9057"/>
                  <a:pt x="22920" y="9029"/>
                </a:cubicBezTo>
                <a:cubicBezTo>
                  <a:pt x="22884" y="9000"/>
                  <a:pt x="22913" y="9005"/>
                  <a:pt x="22895" y="8954"/>
                </a:cubicBezTo>
                <a:cubicBezTo>
                  <a:pt x="22882" y="8917"/>
                  <a:pt x="22873" y="8898"/>
                  <a:pt x="22870" y="8855"/>
                </a:cubicBezTo>
                <a:cubicBezTo>
                  <a:pt x="22857" y="8631"/>
                  <a:pt x="22853" y="8368"/>
                  <a:pt x="22895" y="8161"/>
                </a:cubicBezTo>
                <a:cubicBezTo>
                  <a:pt x="22902" y="8128"/>
                  <a:pt x="22858" y="8117"/>
                  <a:pt x="22870" y="8086"/>
                </a:cubicBezTo>
                <a:cubicBezTo>
                  <a:pt x="22878" y="8086"/>
                  <a:pt x="22887" y="8086"/>
                  <a:pt x="22895" y="8086"/>
                </a:cubicBezTo>
              </a:path>
              <a:path w="1316" h="1018">
                <a:moveTo>
                  <a:pt x="23242" y="8434"/>
                </a:moveTo>
                <a:cubicBezTo>
                  <a:pt x="23251" y="8437"/>
                  <a:pt x="23311" y="8475"/>
                  <a:pt x="23316" y="8483"/>
                </a:cubicBezTo>
                <a:cubicBezTo>
                  <a:pt x="23321" y="8491"/>
                  <a:pt x="23356" y="8552"/>
                  <a:pt x="23366" y="8558"/>
                </a:cubicBezTo>
                <a:cubicBezTo>
                  <a:pt x="23387" y="8572"/>
                  <a:pt x="23428" y="8624"/>
                  <a:pt x="23440" y="8632"/>
                </a:cubicBezTo>
                <a:cubicBezTo>
                  <a:pt x="23471" y="8653"/>
                  <a:pt x="23468" y="8653"/>
                  <a:pt x="23490" y="8682"/>
                </a:cubicBezTo>
                <a:cubicBezTo>
                  <a:pt x="23515" y="8714"/>
                  <a:pt x="23536" y="8726"/>
                  <a:pt x="23540" y="8756"/>
                </a:cubicBezTo>
                <a:cubicBezTo>
                  <a:pt x="23544" y="8791"/>
                  <a:pt x="23528" y="8768"/>
                  <a:pt x="23564" y="8756"/>
                </a:cubicBezTo>
                <a:cubicBezTo>
                  <a:pt x="23565" y="8753"/>
                  <a:pt x="23586" y="8685"/>
                  <a:pt x="23589" y="8682"/>
                </a:cubicBezTo>
                <a:cubicBezTo>
                  <a:pt x="23600" y="8673"/>
                  <a:pt x="23633" y="8635"/>
                  <a:pt x="23639" y="8632"/>
                </a:cubicBezTo>
                <a:cubicBezTo>
                  <a:pt x="23664" y="8620"/>
                  <a:pt x="23673" y="8590"/>
                  <a:pt x="23688" y="8582"/>
                </a:cubicBezTo>
                <a:cubicBezTo>
                  <a:pt x="23724" y="8564"/>
                  <a:pt x="23716" y="8563"/>
                  <a:pt x="23738" y="8533"/>
                </a:cubicBezTo>
                <a:cubicBezTo>
                  <a:pt x="23759" y="8505"/>
                  <a:pt x="23827" y="8473"/>
                  <a:pt x="23837" y="8458"/>
                </a:cubicBezTo>
                <a:cubicBezTo>
                  <a:pt x="23837" y="8450"/>
                  <a:pt x="23837" y="8442"/>
                  <a:pt x="23837" y="8434"/>
                </a:cubicBezTo>
                <a:cubicBezTo>
                  <a:pt x="23776" y="8434"/>
                  <a:pt x="23737" y="8420"/>
                  <a:pt x="23688" y="8409"/>
                </a:cubicBezTo>
                <a:cubicBezTo>
                  <a:pt x="23594" y="8389"/>
                  <a:pt x="23341" y="8378"/>
                  <a:pt x="23267" y="8434"/>
                </a:cubicBezTo>
                <a:cubicBezTo>
                  <a:pt x="23200" y="8434"/>
                  <a:pt x="23304" y="8434"/>
                  <a:pt x="23316" y="8434"/>
                </a:cubicBezTo>
                <a:cubicBezTo>
                  <a:pt x="23357" y="8434"/>
                  <a:pt x="23399" y="8434"/>
                  <a:pt x="23440" y="8434"/>
                </a:cubicBezTo>
                <a:cubicBezTo>
                  <a:pt x="23428" y="8396"/>
                  <a:pt x="23411" y="8409"/>
                  <a:pt x="23366" y="8409"/>
                </a:cubicBezTo>
                <a:cubicBezTo>
                  <a:pt x="23320" y="8409"/>
                  <a:pt x="23308" y="8389"/>
                  <a:pt x="23267" y="8384"/>
                </a:cubicBezTo>
                <a:cubicBezTo>
                  <a:pt x="23214" y="8378"/>
                  <a:pt x="23211" y="8384"/>
                  <a:pt x="23267" y="8384"/>
                </a:cubicBezTo>
                <a:cubicBezTo>
                  <a:pt x="23317" y="8384"/>
                  <a:pt x="23325" y="8395"/>
                  <a:pt x="23366" y="8409"/>
                </a:cubicBezTo>
                <a:cubicBezTo>
                  <a:pt x="23375" y="8412"/>
                  <a:pt x="23482" y="8409"/>
                  <a:pt x="23416" y="8409"/>
                </a:cubicBezTo>
                <a:cubicBezTo>
                  <a:pt x="23375" y="8409"/>
                  <a:pt x="23333" y="8409"/>
                  <a:pt x="23292" y="8409"/>
                </a:cubicBezTo>
                <a:cubicBezTo>
                  <a:pt x="23221" y="8409"/>
                  <a:pt x="23335" y="8405"/>
                  <a:pt x="23341" y="8409"/>
                </a:cubicBezTo>
                <a:cubicBezTo>
                  <a:pt x="23382" y="8432"/>
                  <a:pt x="23389" y="8434"/>
                  <a:pt x="23440" y="8434"/>
                </a:cubicBezTo>
                <a:cubicBezTo>
                  <a:pt x="23525" y="8434"/>
                  <a:pt x="23615" y="8435"/>
                  <a:pt x="23664" y="8409"/>
                </a:cubicBezTo>
                <a:cubicBezTo>
                  <a:pt x="23705" y="8388"/>
                  <a:pt x="23815" y="8409"/>
                  <a:pt x="23862" y="8409"/>
                </a:cubicBezTo>
                <a:cubicBezTo>
                  <a:pt x="23823" y="8399"/>
                  <a:pt x="23807" y="8384"/>
                  <a:pt x="23763" y="8384"/>
                </a:cubicBezTo>
                <a:cubicBezTo>
                  <a:pt x="23697" y="8384"/>
                  <a:pt x="23630" y="8384"/>
                  <a:pt x="23564" y="8384"/>
                </a:cubicBezTo>
                <a:cubicBezTo>
                  <a:pt x="23655" y="8384"/>
                  <a:pt x="23746" y="8384"/>
                  <a:pt x="23837" y="8384"/>
                </a:cubicBezTo>
                <a:cubicBezTo>
                  <a:pt x="23799" y="8397"/>
                  <a:pt x="23817" y="8409"/>
                  <a:pt x="23763" y="8409"/>
                </a:cubicBezTo>
                <a:cubicBezTo>
                  <a:pt x="23686" y="8409"/>
                  <a:pt x="23415" y="8395"/>
                  <a:pt x="23440" y="843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2-11 ATB</a:t>
            </a:r>
            <a:endParaRPr b="0" lang="en-US" sz="4400" spc="-1" strike="noStrike">
              <a:solidFill>
                <a:srgbClr val="c4c3aa"/>
              </a:solidFill>
              <a:latin typeface="Arial"/>
            </a:endParaRPr>
          </a:p>
        </p:txBody>
      </p:sp>
      <p:sp>
        <p:nvSpPr>
          <p:cNvPr id="348" name="PlaceHolder 2"/>
          <p:cNvSpPr>
            <a:spLocks noGrp="1"/>
          </p:cNvSpPr>
          <p:nvPr>
            <p:ph/>
          </p:nvPr>
        </p:nvSpPr>
        <p:spPr>
          <a:xfrm>
            <a:off x="380880" y="1218960"/>
            <a:ext cx="8229600" cy="4530600"/>
          </a:xfrm>
          <a:prstGeom prst="rect">
            <a:avLst/>
          </a:prstGeom>
          <a:noFill/>
          <a:ln w="0">
            <a:noFill/>
          </a:ln>
        </p:spPr>
        <p:txBody>
          <a:bodyPr lIns="90000" rIns="90000" tIns="46800" bIns="46800" anchor="t">
            <a:normAutofit/>
          </a:bodyPr>
          <a:p>
            <a:pPr marL="609480" indent="-6094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is one thing you could improve about your ppt?  What is one good aspect?</a:t>
            </a:r>
            <a:endParaRPr b="0" lang="en-US" sz="2800" spc="-1" strike="noStrike">
              <a:solidFill>
                <a:srgbClr val="ffffff"/>
              </a:solidFill>
              <a:latin typeface="Verdana"/>
            </a:endParaRPr>
          </a:p>
          <a:p>
            <a:pPr marL="609480" indent="-6094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day:</a:t>
            </a:r>
            <a:endParaRPr b="0" lang="en-US" sz="2800" spc="-1" strike="noStrike">
              <a:solidFill>
                <a:srgbClr val="ffffff"/>
              </a:solidFill>
              <a:latin typeface="Verdana"/>
            </a:endParaRPr>
          </a:p>
          <a:p>
            <a:pPr lvl="1" marL="990720" indent="-53352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egin presentations!</a:t>
            </a:r>
            <a:endParaRPr b="0" lang="en-US" sz="2400" spc="-1" strike="noStrike">
              <a:solidFill>
                <a:srgbClr val="ffffff"/>
              </a:solidFill>
              <a:latin typeface="Verdana"/>
            </a:endParaRPr>
          </a:p>
          <a:p>
            <a:pPr lvl="1" marL="990720" indent="-53352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eer evaluations – directions</a:t>
            </a:r>
            <a:endParaRPr b="0" lang="en-US" sz="2400" spc="-1" strike="noStrike">
              <a:solidFill>
                <a:srgbClr val="ffffff"/>
              </a:solidFill>
              <a:latin typeface="Verdana"/>
            </a:endParaRPr>
          </a:p>
          <a:p>
            <a:pPr lvl="1" marL="990720" indent="-53352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ve me your directions sheet to grade</a:t>
            </a:r>
            <a:endParaRPr b="0" lang="en-US" sz="2400" spc="-1" strike="noStrike">
              <a:solidFill>
                <a:srgbClr val="ffffff"/>
              </a:solidFill>
              <a:latin typeface="Verdana"/>
            </a:endParaRPr>
          </a:p>
          <a:p>
            <a:pPr lvl="1" marL="990720" indent="-53352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e a respectful audience / pay attention, your test will be on what they are presenting!</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4:13:05Z</dcterms:created>
  <dc:creator>SASD</dc:creator>
  <dc:description/>
  <dc:language>en-US</dc:language>
  <cp:lastModifiedBy>SASD</cp:lastModifiedBy>
  <dcterms:modified xsi:type="dcterms:W3CDTF">2011-02-25T14:43:08Z</dcterms:modified>
  <cp:revision>21</cp:revision>
  <dc:subject/>
  <dc:title>Slide 1</dc:title>
</cp:coreProperties>
</file>